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81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08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8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08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61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81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61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681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08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7400" y="914040"/>
            <a:ext cx="77724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08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8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8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08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08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81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79280" y="1409760"/>
            <a:ext cx="962496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fcfd1"/>
                </a:solidFill>
                <a:latin typeface="Eurostile"/>
              </a:rPr>
              <a:t>Click to edit the title text format</a:t>
            </a:r>
            <a:endParaRPr b="0" i="1" lang="en-US" sz="20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81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9"/>
          <p:cNvSpPr/>
          <p:nvPr/>
        </p:nvSpPr>
        <p:spPr>
          <a:xfrm>
            <a:off x="204840" y="6553080"/>
            <a:ext cx="962496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8915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QUESTIONS D’INTERDISCIPLINARITE?</a:t>
            </a:r>
            <a:br>
              <a:rPr sz="3600"/>
            </a:br>
            <a:endParaRPr b="0" i="1" lang="en-US" sz="36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324120" y="56383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e2ff0b"/>
                </a:solidFill>
                <a:latin typeface="Comic Sans MS"/>
              </a:rPr>
              <a:t>Benoît ROUSS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e2ff0b"/>
                </a:solidFill>
                <a:latin typeface="Comic Sans MS"/>
              </a:rPr>
              <a:t>ERPI-ENSGSI-INP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Les Différents Modèles de l’Inter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54160" y="1523880"/>
            <a:ext cx="6799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07800"/>
                </a:solidFill>
                <a:latin typeface="Arial"/>
              </a:rPr>
              <a:t>La Circulation (2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Risq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Champ disciplinaire récepteur doit GERER et DIGERER une diversité de compétence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Situer les différents concep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Cela passe p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La Circulation des</a:t>
            </a: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textes, objets et surtout des CONCEPTS importés. </a:t>
            </a:r>
            <a:r>
              <a:rPr b="0" i="1" lang="fr-FR" sz="2000" spc="-1" strike="noStrike">
                <a:solidFill>
                  <a:srgbClr val="e2ff0b"/>
                </a:solidFill>
                <a:latin typeface="Arial"/>
              </a:rPr>
              <a:t>(Concepts Nomades [Stengers,87]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057400" y="8953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Les Différents Modèles de l’Interdisciplinarité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954160" y="2438280"/>
            <a:ext cx="6799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07800"/>
                </a:solidFill>
                <a:latin typeface="Arial"/>
              </a:rPr>
              <a:t>La Fus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07800"/>
                </a:solidFill>
                <a:latin typeface="Arial"/>
              </a:rPr>
              <a:t>Regroupement des chercheurs sans distinction de leur disciplines d’origin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Réarticulation du Savoir autour d’un nouveau concep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Ex : l’écologie, 2 concepts : Niche et écosystè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" y="3160800"/>
            <a:ext cx="38088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828800" y="3160800"/>
            <a:ext cx="457200" cy="609480"/>
          </a:xfrm>
          <a:prstGeom prst="rect">
            <a:avLst/>
          </a:prstGeom>
          <a:solidFill>
            <a:srgbClr val="e2ff0b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57200" y="3124080"/>
            <a:ext cx="1752480" cy="609840"/>
          </a:xfrm>
          <a:prstGeom prst="pie">
            <a:avLst/>
          </a:prstGeom>
          <a:solidFill>
            <a:srgbClr val="e2ff0b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57200" y="3962520"/>
            <a:ext cx="38088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57200" y="2438280"/>
            <a:ext cx="380880" cy="60984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28600" y="2133720"/>
            <a:ext cx="762120" cy="2819160"/>
          </a:xfrm>
          <a:prstGeom prst="ellipse">
            <a:avLst/>
          </a:prstGeom>
          <a:noFill/>
          <a:ln w="5724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12"/>
          <p:cNvSpPr/>
          <p:nvPr/>
        </p:nvSpPr>
        <p:spPr>
          <a:xfrm>
            <a:off x="685800" y="2590920"/>
            <a:ext cx="1371600" cy="1371600"/>
          </a:xfrm>
          <a:prstGeom prst="ellipse">
            <a:avLst/>
          </a:prstGeom>
          <a:noFill/>
          <a:ln w="3816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Les Différents Modèles de l’Inter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54160" y="1523880"/>
            <a:ext cx="6799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07800"/>
                </a:solidFill>
                <a:latin typeface="Arial"/>
              </a:rPr>
              <a:t>La Confron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07800"/>
                </a:solidFill>
                <a:latin typeface="Arial"/>
              </a:rPr>
              <a:t>Confrontation entre points de vues différen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Pour croiser des résultats, concepts et méthodes les uns aux autre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Impliqu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Traverser les frontières disciplinaires, les redéfinir au besoin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Existence de points de vue préalables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Disciplines prêtes à dialoguer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57200" y="297180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981080" y="297180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028880" y="2438280"/>
            <a:ext cx="609480" cy="1752480"/>
            <a:chOff x="1028880" y="2438280"/>
            <a:chExt cx="609480" cy="1752480"/>
          </a:xfrm>
        </p:grpSpPr>
        <p:sp>
          <p:nvSpPr>
            <p:cNvPr id="126" name="Rectangle 10"/>
            <p:cNvSpPr/>
            <p:nvPr/>
          </p:nvSpPr>
          <p:spPr>
            <a:xfrm rot="16200000">
              <a:off x="1219320" y="3771720"/>
              <a:ext cx="228600" cy="609480"/>
            </a:xfrm>
            <a:prstGeom prst="rect">
              <a:avLst/>
            </a:prstGeom>
            <a:solidFill>
              <a:srgbClr val="f07800"/>
            </a:solidFill>
            <a:ln w="12600">
              <a:solidFill>
                <a:srgbClr val="f07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 rot="16200000">
              <a:off x="1219320" y="2247840"/>
              <a:ext cx="228600" cy="609480"/>
            </a:xfrm>
            <a:prstGeom prst="rect">
              <a:avLst/>
            </a:prstGeom>
            <a:solidFill>
              <a:srgbClr val="f07800"/>
            </a:solidFill>
            <a:ln w="12600">
              <a:solidFill>
                <a:srgbClr val="f07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Oval 13"/>
          <p:cNvSpPr/>
          <p:nvPr/>
        </p:nvSpPr>
        <p:spPr>
          <a:xfrm>
            <a:off x="1219320" y="3124080"/>
            <a:ext cx="228600" cy="228600"/>
          </a:xfrm>
          <a:prstGeom prst="ellipse">
            <a:avLst/>
          </a:prstGeom>
          <a:solidFill>
            <a:srgbClr val="e2ff0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609480" y="3200400"/>
            <a:ext cx="1447920" cy="0"/>
            <a:chOff x="609480" y="3200400"/>
            <a:chExt cx="1447920" cy="0"/>
          </a:xfrm>
        </p:grpSpPr>
        <p:sp>
          <p:nvSpPr>
            <p:cNvPr id="130" name="Line 15"/>
            <p:cNvSpPr/>
            <p:nvPr/>
          </p:nvSpPr>
          <p:spPr>
            <a:xfrm>
              <a:off x="609480" y="3200400"/>
              <a:ext cx="533520" cy="0"/>
            </a:xfrm>
            <a:prstGeom prst="line">
              <a:avLst/>
            </a:prstGeom>
            <a:ln w="38160">
              <a:solidFill>
                <a:srgbClr val="f07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 flipH="1">
              <a:off x="1523880" y="3200400"/>
              <a:ext cx="533520" cy="0"/>
            </a:xfrm>
            <a:prstGeom prst="line">
              <a:avLst/>
            </a:prstGeom>
            <a:ln w="38160">
              <a:solidFill>
                <a:srgbClr val="f07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1371600" y="2514600"/>
            <a:ext cx="0" cy="1447920"/>
            <a:chOff x="1371600" y="2514600"/>
            <a:chExt cx="0" cy="1447920"/>
          </a:xfrm>
        </p:grpSpPr>
        <p:sp>
          <p:nvSpPr>
            <p:cNvPr id="133" name="Line 18"/>
            <p:cNvSpPr/>
            <p:nvPr/>
          </p:nvSpPr>
          <p:spPr>
            <a:xfrm>
              <a:off x="1371600" y="2514600"/>
              <a:ext cx="0" cy="533520"/>
            </a:xfrm>
            <a:prstGeom prst="line">
              <a:avLst/>
            </a:prstGeom>
            <a:ln w="38160">
              <a:solidFill>
                <a:srgbClr val="f07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1371600" y="3429000"/>
              <a:ext cx="0" cy="533520"/>
            </a:xfrm>
            <a:prstGeom prst="line">
              <a:avLst/>
            </a:prstGeom>
            <a:ln w="38160">
              <a:solidFill>
                <a:srgbClr val="f07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QUESTIONS D’INTERDISCIPLINARITE?</a:t>
            </a:r>
            <a:br>
              <a:rPr sz="3600"/>
            </a:br>
            <a:br>
              <a:rPr sz="3600"/>
            </a:b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EXEMPLE DE L’ERGONOMIE EN CONCEPTION DE PRODUITS</a:t>
            </a:r>
            <a:br>
              <a:rPr sz="3600"/>
            </a:b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ou </a:t>
            </a:r>
            <a:br>
              <a:rPr sz="3600"/>
            </a:b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la naissance de </a:t>
            </a:r>
            <a:br>
              <a:rPr sz="3600"/>
            </a:br>
            <a:r>
              <a:rPr b="1" i="1" lang="fr-FR" sz="3600" spc="-1" strike="noStrike">
                <a:solidFill>
                  <a:srgbClr val="e2ff0b"/>
                </a:solidFill>
                <a:latin typeface="Comic Sans MS"/>
              </a:rPr>
              <a:t>l’Ingénierie Centrée sur l’Homme</a:t>
            </a:r>
            <a:endParaRPr b="0" i="1" lang="en-US" sz="36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120" y="56383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e2ff0b"/>
                </a:solidFill>
                <a:latin typeface="Comic Sans MS"/>
              </a:rPr>
              <a:t>Benoît ROUSS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e2ff0b"/>
                </a:solidFill>
                <a:latin typeface="Comic Sans MS"/>
              </a:rPr>
              <a:t>ERPI-ENSGSI-INP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Pourquoi l’interdisciplinarité?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Mutation de l’industri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2ff0b"/>
                </a:solidFill>
                <a:latin typeface="Arial"/>
              </a:rPr>
              <a:t>Complexité des objets, services, systèmes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2ff0b"/>
                </a:solidFill>
                <a:latin typeface="Arial"/>
              </a:rPr>
              <a:t>Nécessité Points de Vue Transversaux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2ff0b"/>
                </a:solidFill>
                <a:latin typeface="Arial"/>
              </a:rPr>
              <a:t>Travail en équip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Mutation des domaines scientifiqu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2ff0b"/>
                </a:solidFill>
                <a:latin typeface="Arial"/>
              </a:rPr>
              <a:t>Nouveaux savoirs à maîtriser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2ff0b"/>
                </a:solidFill>
                <a:latin typeface="Arial"/>
              </a:rPr>
              <a:t>Fragmentation des sciences en discipl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http://www.t3.co.uk/upload_images/reviews/appleG4Cube.jpg"/>
          <p:cNvPicPr/>
          <p:nvPr/>
        </p:nvPicPr>
        <p:blipFill>
          <a:blip r:embed="rId1"/>
          <a:stretch/>
        </p:blipFill>
        <p:spPr>
          <a:xfrm>
            <a:off x="76320" y="914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://www.samsungelectronics.com/digital_audio_player/images/digital_audio_splash.jpg"/>
          <p:cNvPicPr/>
          <p:nvPr/>
        </p:nvPicPr>
        <p:blipFill>
          <a:blip r:embed="rId2"/>
          <a:srcRect l="49926" t="0" r="25556" b="49679"/>
          <a:stretch/>
        </p:blipFill>
        <p:spPr>
          <a:xfrm>
            <a:off x="76320" y="2871720"/>
            <a:ext cx="182880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avantime.renault.com/club-avantime/images/common/salons/geneve2001/page3_photo1.jpg"/>
          <p:cNvPicPr/>
          <p:nvPr/>
        </p:nvPicPr>
        <p:blipFill>
          <a:blip r:embed="rId3"/>
          <a:srcRect l="0" t="0" r="2708" b="0"/>
          <a:stretch/>
        </p:blipFill>
        <p:spPr>
          <a:xfrm>
            <a:off x="76320" y="4876920"/>
            <a:ext cx="27432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Qu’est-ce que l’interdisciplinarité?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81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e2ff0b"/>
                </a:solidFill>
                <a:latin typeface="Arial"/>
              </a:rPr>
              <a:t>Suppose de définir :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La pluridisciplinarité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La transdisciplinarité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L’interdisciplinarité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[Jantsch,1970; Garcia, 1980; Morin, 1990; Gusdori, 1991;Vinck, 2000]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Définition de la Pluri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25200" y="2362320"/>
            <a:ext cx="67993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Juxtaposition de discipline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Accumulation de Savoir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Hétérogénéité de ces Savoir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c0128"/>
                </a:solidFill>
                <a:latin typeface="Arial"/>
              </a:rPr>
              <a:t>Mai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Les disciplines n’échangent p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14680" y="2890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99072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44792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98108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838080" y="2362320"/>
            <a:ext cx="0" cy="167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295280" y="2362320"/>
            <a:ext cx="0" cy="167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752480" y="2362320"/>
            <a:ext cx="0" cy="167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609480" y="3200400"/>
            <a:ext cx="0" cy="129528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143000" y="3200400"/>
            <a:ext cx="0" cy="129528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1600200" y="3200400"/>
            <a:ext cx="0" cy="129528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2133720" y="3200400"/>
            <a:ext cx="0" cy="129528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457200" y="1905120"/>
            <a:ext cx="1676520" cy="304560"/>
          </a:xfrm>
          <a:prstGeom prst="ellipse">
            <a:avLst/>
          </a:prstGeom>
          <a:solidFill>
            <a:srgbClr val="e2ff0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457200" y="4800600"/>
            <a:ext cx="1676520" cy="304920"/>
          </a:xfrm>
          <a:prstGeom prst="ellipse">
            <a:avLst/>
          </a:prstGeom>
          <a:solidFill>
            <a:srgbClr val="e2ff0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838080" y="4572000"/>
            <a:ext cx="0" cy="685800"/>
          </a:xfrm>
          <a:prstGeom prst="line">
            <a:avLst/>
          </a:prstGeom>
          <a:ln w="57240">
            <a:solidFill>
              <a:srgbClr val="290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1295280" y="4724280"/>
            <a:ext cx="0" cy="685800"/>
          </a:xfrm>
          <a:prstGeom prst="line">
            <a:avLst/>
          </a:prstGeom>
          <a:ln w="57240">
            <a:solidFill>
              <a:srgbClr val="290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1752480" y="4648320"/>
            <a:ext cx="0" cy="685800"/>
          </a:xfrm>
          <a:prstGeom prst="line">
            <a:avLst/>
          </a:prstGeom>
          <a:ln w="57240">
            <a:solidFill>
              <a:srgbClr val="290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Définition de la Trans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725560" y="1905120"/>
            <a:ext cx="6799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Génération d’un Savoir, d’une problématique TRANSVERSALE aux discipline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Travail sur les paradigmes les plus fondamentaux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c0128"/>
                </a:solidFill>
                <a:latin typeface="Arial"/>
              </a:rPr>
              <a:t>Suppo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Important travail epistémologique et paradigmatologique.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[Durand, 87], Est-ce possible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9072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44792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981080" y="25909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33520" y="3200400"/>
            <a:ext cx="609480" cy="137160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066680" y="3200400"/>
            <a:ext cx="228600" cy="114300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1523880" y="3200400"/>
            <a:ext cx="609840" cy="137160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1371240" y="3200400"/>
            <a:ext cx="228600" cy="114300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1143000" y="4495680"/>
            <a:ext cx="380880" cy="304920"/>
          </a:xfrm>
          <a:prstGeom prst="ellipse">
            <a:avLst/>
          </a:prstGeom>
          <a:solidFill>
            <a:srgbClr val="e2ff0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80880" y="3809880"/>
            <a:ext cx="1981440" cy="0"/>
          </a:xfrm>
          <a:prstGeom prst="line">
            <a:avLst/>
          </a:prstGeom>
          <a:ln w="38160">
            <a:solidFill>
              <a:srgbClr val="e2ff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Définition de l’Inter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954160" y="2057400"/>
            <a:ext cx="6799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Dialogues, échanges et confrontations et interprétations entre discipline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Implique Transformation des Savoirs,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c0128"/>
                </a:solidFill>
                <a:latin typeface="Arial"/>
              </a:rPr>
              <a:t>Mai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e2ff0b"/>
                </a:solidFill>
                <a:latin typeface="Arial"/>
              </a:rPr>
              <a:t>« nous n’en ressortons pas indemne »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Les Différents Modèles de l’Inter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954160" y="2057400"/>
            <a:ext cx="6799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07800"/>
                </a:solidFill>
                <a:latin typeface="Arial"/>
              </a:rPr>
              <a:t>La Complémentarité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07800"/>
                </a:solidFill>
                <a:latin typeface="Arial"/>
              </a:rPr>
              <a:t>Pour traiter de manière conjointe une question par l’apport de différentes disciplines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Souvent asymétrie = 1 discipline support + sous traitant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Risqu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Limite et manque de pertinence du partage disciplinair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09480" y="2590920"/>
            <a:ext cx="1676520" cy="1218960"/>
          </a:xfrm>
          <a:prstGeom prst="ellipse">
            <a:avLst/>
          </a:prstGeom>
          <a:solidFill>
            <a:srgbClr val="e2ff0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 rot="2654400">
            <a:off x="1371240" y="2666880"/>
            <a:ext cx="1219320" cy="1143000"/>
          </a:xfrm>
          <a:prstGeom prst="rect">
            <a:avLst/>
          </a:prstGeom>
          <a:solidFill>
            <a:srgbClr val="290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57200" y="182880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609480" y="2438280"/>
            <a:ext cx="304920" cy="76212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1295280" y="2666880"/>
            <a:ext cx="762120" cy="533520"/>
            <a:chOff x="1295280" y="2666880"/>
            <a:chExt cx="762120" cy="533520"/>
          </a:xfrm>
        </p:grpSpPr>
        <p:sp>
          <p:nvSpPr>
            <p:cNvPr id="91" name="Line 11"/>
            <p:cNvSpPr/>
            <p:nvPr/>
          </p:nvSpPr>
          <p:spPr>
            <a:xfrm flipV="1">
              <a:off x="1295280" y="2666880"/>
              <a:ext cx="533520" cy="533520"/>
            </a:xfrm>
            <a:prstGeom prst="line">
              <a:avLst/>
            </a:prstGeom>
            <a:ln w="12600">
              <a:solidFill>
                <a:srgbClr val="e2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1295280" y="3200400"/>
              <a:ext cx="762120" cy="0"/>
            </a:xfrm>
            <a:prstGeom prst="line">
              <a:avLst/>
            </a:prstGeom>
            <a:ln w="12600">
              <a:solidFill>
                <a:srgbClr val="e2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rc 16"/>
            <p:cNvSpPr/>
            <p:nvPr/>
          </p:nvSpPr>
          <p:spPr>
            <a:xfrm>
              <a:off x="1828800" y="2666880"/>
              <a:ext cx="228600" cy="533520"/>
            </a:xfrm>
            <a:prstGeom prst="pie">
              <a:avLst/>
            </a:prstGeom>
            <a:noFill/>
            <a:ln w="12600">
              <a:solidFill>
                <a:srgbClr val="e2ff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1295280" y="3276360"/>
            <a:ext cx="762120" cy="533520"/>
            <a:chOff x="1295280" y="3276360"/>
            <a:chExt cx="762120" cy="533520"/>
          </a:xfrm>
        </p:grpSpPr>
        <p:sp>
          <p:nvSpPr>
            <p:cNvPr id="95" name="Line 19"/>
            <p:cNvSpPr/>
            <p:nvPr/>
          </p:nvSpPr>
          <p:spPr>
            <a:xfrm>
              <a:off x="1295280" y="3276720"/>
              <a:ext cx="533520" cy="533160"/>
            </a:xfrm>
            <a:prstGeom prst="line">
              <a:avLst/>
            </a:prstGeom>
            <a:ln w="12600">
              <a:solidFill>
                <a:srgbClr val="e2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0"/>
            <p:cNvSpPr/>
            <p:nvPr/>
          </p:nvSpPr>
          <p:spPr>
            <a:xfrm>
              <a:off x="1295280" y="3276360"/>
              <a:ext cx="762120" cy="0"/>
            </a:xfrm>
            <a:prstGeom prst="line">
              <a:avLst/>
            </a:prstGeom>
            <a:ln w="12600">
              <a:solidFill>
                <a:srgbClr val="e2f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rc 21"/>
            <p:cNvSpPr/>
            <p:nvPr/>
          </p:nvSpPr>
          <p:spPr>
            <a:xfrm flipV="1">
              <a:off x="1828800" y="3276000"/>
              <a:ext cx="228600" cy="533160"/>
            </a:xfrm>
            <a:prstGeom prst="pie">
              <a:avLst/>
            </a:prstGeom>
            <a:noFill/>
            <a:ln w="12600">
              <a:solidFill>
                <a:srgbClr val="e2ff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2"/>
          <p:cNvSpPr/>
          <p:nvPr/>
        </p:nvSpPr>
        <p:spPr>
          <a:xfrm>
            <a:off x="1981080" y="182880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1981080" y="3962520"/>
            <a:ext cx="2286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 flipH="1">
            <a:off x="1752120" y="2438280"/>
            <a:ext cx="304920" cy="60984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 flipH="1" flipV="1">
            <a:off x="1752120" y="3428640"/>
            <a:ext cx="304920" cy="609480"/>
          </a:xfrm>
          <a:prstGeom prst="line">
            <a:avLst/>
          </a:prstGeom>
          <a:ln w="3816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07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afcfd1"/>
                </a:solidFill>
                <a:latin typeface="Eurostile"/>
              </a:rPr>
              <a:t>Les Différents Modèles de l’Interdisciplinarité</a:t>
            </a:r>
            <a:endParaRPr b="0" i="1" lang="en-US" sz="2800" spc="-1" strike="noStrike">
              <a:solidFill>
                <a:srgbClr val="afcfd1"/>
              </a:solidFill>
              <a:latin typeface="Eurostile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54160" y="1523880"/>
            <a:ext cx="67993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07800"/>
                </a:solidFill>
                <a:latin typeface="Arial"/>
              </a:rPr>
              <a:t>La Circul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07800"/>
                </a:solidFill>
                <a:latin typeface="Arial"/>
              </a:rPr>
              <a:t>Exploration d’une discipline par une autr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Pour emprunter des concepts, méthodes, questions, problèmes à résoudre, résultats,…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Impliqu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Rentrer dans les problématiques et langages des autres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c0128"/>
                </a:solidFill>
                <a:latin typeface="Arial"/>
              </a:rPr>
              <a:t>Puis</a:t>
            </a:r>
            <a:r>
              <a:rPr b="0" i="1" lang="fr-FR" sz="2800" spc="-1" strike="noStrike">
                <a:solidFill>
                  <a:srgbClr val="e2ff0b"/>
                </a:solidFill>
                <a:latin typeface="Arial"/>
              </a:rPr>
              <a:t> Réimporter et traduire ces emprun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7200" y="3160800"/>
            <a:ext cx="38088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828800" y="3160800"/>
            <a:ext cx="457200" cy="609480"/>
          </a:xfrm>
          <a:prstGeom prst="rect">
            <a:avLst/>
          </a:prstGeom>
          <a:solidFill>
            <a:srgbClr val="f07800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3520" y="2550960"/>
            <a:ext cx="1752480" cy="609840"/>
          </a:xfrm>
          <a:prstGeom prst="pie">
            <a:avLst/>
          </a:prstGeom>
          <a:solidFill>
            <a:srgbClr val="e2ff0b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flipH="1" flipV="1">
            <a:off x="533520" y="3769560"/>
            <a:ext cx="1752480" cy="609480"/>
          </a:xfrm>
          <a:prstGeom prst="pie">
            <a:avLst/>
          </a:prstGeom>
          <a:solidFill>
            <a:srgbClr val="e2ff0b"/>
          </a:solidFill>
          <a:ln w="1260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28960" y="198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078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12896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078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19:27:29Z</dcterms:created>
  <dc:creator>ENSAM</dc:creator>
  <dc:description/>
  <cp:keywords/>
  <dc:language>en-US</dc:language>
  <cp:lastModifiedBy>Benoît Roussel</cp:lastModifiedBy>
  <cp:lastPrinted>2000-05-17T08:05:56Z</cp:lastPrinted>
  <dcterms:modified xsi:type="dcterms:W3CDTF">2011-01-10T17:37:32Z</dcterms:modified>
  <cp:revision>61</cp:revision>
  <dc:subject/>
  <dc:title>Aucun titre de diapositive</dc:title>
</cp:coreProperties>
</file>